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A50-BF10-4BE9-9FE6-2CA803E2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FA1-DAC8-4E62-9DF3-A24CE38A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041-C772-4700-BC7E-E64F4733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92F-1310-4558-8904-DECC1B33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C59-F51C-4172-A28B-10F1CE99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BA5-046C-44FC-BD7C-EEA29640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BDF-A0B6-47DF-B0AE-E32C6A5B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D35-3BBD-4A13-8272-160880E6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2C5-ECE9-42EB-8A68-4A68D7CB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C9D-9A85-4C43-A6DC-9A78A559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B27-D357-4138-8D45-2FE298C2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C9A-F910-4B63-8592-61718E8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1E6-A5E7-4251-A2F7-749764CA1F9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1914480"/>
            <a:ext cx="7785000" cy="260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ВТОР: Напалкова Валя, учениц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7 класс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рфология- это раздел науки о языке, в котором изучаются части речи, их категории  и формы сло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Рисунок 4" descr="1225110276.jpg"/>
          <p:cNvPicPr/>
          <p:nvPr/>
        </p:nvPicPr>
        <p:blipFill>
          <a:blip r:embed="rId2"/>
          <a:stretch/>
        </p:blipFill>
        <p:spPr>
          <a:xfrm>
            <a:off x="1428840" y="3530520"/>
            <a:ext cx="6072120" cy="277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4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естоимение- часть речи, лишенная собственного лексического значения и употребляемая вместо имени существительного, имени прилагательного, имени числительного или наречия, не называя предмет(явление и т.д.) или его характеристику, а лишь указывая на ни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А знаете ли вы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9680" y="1213920"/>
            <a:ext cx="84726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зиция местоимения в составе частей речи исторически была не такой уж сильной. Включение его в ряды частей речи относится к европейской грамматической традиции, восходящей к античности. Но в грамматических теориях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века появились достаточно сильные возражения против такого подхода. В них подчеркивалась грамматическая неоднородность местоимений, которые квалифицировались как  «указательные слова» ( К. Бругман), «слова с непостоянной сигнификацией»( А. Нурен) и «средства перехода от языка к речи»(Ш. Балли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лич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я, ты, вы , он, она, они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притяжа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мой, твой, ваш, его, её, свой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опроси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кто, сколько, куда, который, каков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относительные(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те же, что и вопросительные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указа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тот, тот, такой, то, таков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определи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есь, все, сам, любой, другой,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отрица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икто, ничто, ничей, негде, никак, и др.)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неопределён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екто, нечто, некоторый, некий,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звратные(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ебя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ногда определить разряд местоимения можно только в контексте 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естоимение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кто, что, сколько, какой, который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могут выступать в качестве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носительных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просительных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местоимен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13" descr="images.jpeg"/>
          <p:cNvPicPr/>
          <p:nvPr/>
        </p:nvPicPr>
        <p:blipFill>
          <a:blip r:embed="rId1"/>
          <a:stretch/>
        </p:blipFill>
        <p:spPr>
          <a:xfrm>
            <a:off x="5500800" y="4000680"/>
            <a:ext cx="3357360" cy="207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ряды местоимений, как и отдельные части речи,  имеют свое лексическое и грамматическое значение, выполняют определенную синтаксическую роль в текст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Рисунок 3" descr="1240496351image011(1).gif"/>
          <p:cNvPicPr/>
          <p:nvPr/>
        </p:nvPicPr>
        <p:blipFill>
          <a:blip r:embed="rId1"/>
          <a:stretch/>
        </p:blipFill>
        <p:spPr>
          <a:xfrm>
            <a:off x="1000080" y="3571920"/>
            <a:ext cx="3929040" cy="29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298440" y="1378080"/>
            <a:ext cx="8669520" cy="47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0:25:10Z</dcterms:created>
  <dc:creator>Васько</dc:creator>
  <dc:description/>
  <dc:language>en-US</dc:language>
  <cp:lastModifiedBy>Samsung</cp:lastModifiedBy>
  <dcterms:modified xsi:type="dcterms:W3CDTF">2010-05-17T16:09:24Z</dcterms:modified>
  <cp:revision>38</cp:revision>
  <dc:subject/>
  <dc:title> Разряды местоимений</dc:title>
</cp:coreProperties>
</file>